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042-CAF0-4B90-A0A7-C6E8DB08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AAA-A114-4814-87C8-A86D9698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B0B-3DAA-4F0A-87E1-DBF97C8D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E56-C2E8-4F14-A340-EC0D095F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EFD-955F-4834-8BD9-734B850F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091-28C2-47E4-A0CC-4BDBE4B2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AC6-EB8F-4B24-956C-81303D8F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F01-EB8A-4ABD-8B30-6787D88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21D-22E6-492B-A9BE-4A7864F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EFB-39A1-4990-923C-BE6F03C3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FCE-623D-421D-8C05-D5705E4C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697-E13A-40F0-A709-8B7469A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745E-C449-4922-A96A-8C78484F8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4200" y="52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0880" y="5238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 Used During Share Time to Assess Independent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 From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ing for Deep Compreh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nda Dorn &amp; Carla Soff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00_2987"/>
          <p:cNvPicPr/>
          <p:nvPr/>
        </p:nvPicPr>
        <p:blipFill>
          <a:blip r:embed="rId1"/>
          <a:stretch/>
        </p:blipFill>
        <p:spPr>
          <a:xfrm>
            <a:off x="838080" y="4419720"/>
            <a:ext cx="5029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219320"/>
            <a:ext cx="5810040" cy="76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ayed in one good reading spot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icked just right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way down deep. I was lost in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opped and reread when it didn’t make s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82948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most of th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tayed in one good reading spot the whol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icked just right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ooks made sense or I went back to re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used strategies to get through the tricky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1447920"/>
            <a:ext cx="5829120" cy="66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ad some of the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hanged reading spo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had some just right books, but I could be more care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respected the readers arou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ort of understood what I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t through some tricky spots, but I skipped 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ted precious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moved around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ot very careful about my book cho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played the pretend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t off track and pulled other readers off tr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8:28:46Z</dcterms:created>
  <dc:creator>Linda Dorn</dc:creator>
  <dc:description/>
  <dc:language>en-US</dc:language>
  <cp:lastModifiedBy>awhited</cp:lastModifiedBy>
  <dcterms:modified xsi:type="dcterms:W3CDTF">2010-08-30T15:29:33Z</dcterms:modified>
  <cp:revision>2</cp:revision>
  <dc:subject/>
  <dc:title>PowerPoint Presentation</dc:title>
</cp:coreProperties>
</file>